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D48-FB25-430B-BD05-A25B2B66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D2A-63AC-4C53-A720-569BABD8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778-E97D-4AB4-A035-28BE10FB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77F-80D0-4976-A86A-CAACE80D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2711-2C82-4FC1-A929-09754E39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15A7-70D6-425E-A553-AF13F6EC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4A1B-E57D-45FD-88B7-A30A318B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3CE1-B96F-4C0A-95EC-885BD120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3FF4-6858-4A5B-BF8E-5ACB9033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3C8E-E075-4898-85B4-BB2A080C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2F0E-0B20-4333-ADE7-F71EFC33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43E-F269-4437-97E9-B46C74D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C654-8380-450A-B9DE-FD0A1CB9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EA47-8449-4B7F-9366-306ECAF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091C-CE63-4490-96EB-58F9B649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7741-7CDF-4AC7-92A3-E950E7F5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FDE5-D206-4EA7-96EA-D224B278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294-42C9-4D6A-AD9E-1866B50C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78E-8599-4BA0-AA2E-7A32F11E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D69-2E7F-4955-8882-9B1814DF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F6D-7139-42D5-8CEF-1033D8B7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F6D-D7D8-4D60-8441-03095836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FD0-EF61-490C-97D3-FDC1221E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185-E4D6-4DA0-8F6C-92674C2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4653-B703-400B-A1A7-2E77C2B3D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471C-C6EC-44F0-82FB-C9E726346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yDVT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Python package for data display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rg Kl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lles Berru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manuel Papil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olas Pa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exandre Gob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Image1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49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Information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esrf.fr/computing/bliss/python/PyD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’s PyDV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containing Python base classes for data visualization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remake of existing ESRF graphical tools in Pyt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creation of simple graphic applications  in beamlines (on-line acquis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ize graphical applicatio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share model with Scisoft   (off-line ana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k or Qt?  GUI toolkit in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data abstraction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and extensible mod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of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complex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66840" y="533520"/>
            <a:ext cx="8776800" cy="5943600"/>
            <a:chOff x="366840" y="533520"/>
            <a:chExt cx="8776800" cy="5943600"/>
          </a:xfrm>
        </p:grpSpPr>
        <p:grpSp>
          <p:nvGrpSpPr>
            <p:cNvPr id="137" name=""/>
            <p:cNvGrpSpPr/>
            <p:nvPr/>
          </p:nvGrpSpPr>
          <p:grpSpPr>
            <a:xfrm>
              <a:off x="2926440" y="4099680"/>
              <a:ext cx="639720" cy="274320"/>
              <a:chOff x="2926440" y="4099680"/>
              <a:chExt cx="639720" cy="27432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926440" y="42825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92200" y="4099680"/>
                <a:ext cx="247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26800" y="4099680"/>
                <a:ext cx="2466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761080" y="533520"/>
              <a:ext cx="3291480" cy="2560320"/>
              <a:chOff x="5761080" y="533520"/>
              <a:chExt cx="3291480" cy="2560320"/>
            </a:xfrm>
          </p:grpSpPr>
          <p:sp>
            <p:nvSpPr>
              <p:cNvPr id="142" name=""/>
              <p:cNvSpPr/>
              <p:nvPr/>
            </p:nvSpPr>
            <p:spPr>
              <a:xfrm>
                <a:off x="7811280" y="533520"/>
                <a:ext cx="124128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DF FIL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761080" y="533520"/>
                <a:ext cx="1425960" cy="2560320"/>
                <a:chOff x="5761080" y="533520"/>
                <a:chExt cx="1425960" cy="2560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761080" y="533520"/>
                  <a:ext cx="1425960" cy="2560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39280" y="807840"/>
                  <a:ext cx="980280" cy="27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fo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939280" y="1265040"/>
                  <a:ext cx="80208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87600" y="1417320"/>
                  <a:ext cx="80208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236280" y="1569960"/>
                  <a:ext cx="80208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384960" y="1813680"/>
                  <a:ext cx="534600" cy="27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f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384960" y="2179440"/>
                  <a:ext cx="534600" cy="640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rr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7186680" y="71640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1280" y="1082160"/>
                <a:ext cx="124128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PEC SHAR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EMORY 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7186680" y="126504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11280" y="2179440"/>
                <a:ext cx="124128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JPG F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7186680" y="236232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11280" y="1630800"/>
                <a:ext cx="124128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PEC F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7186680" y="181368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811280" y="2728080"/>
                <a:ext cx="1241280" cy="365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7186680" y="291096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120640" y="2453760"/>
              <a:ext cx="639720" cy="274320"/>
              <a:chOff x="5120640" y="2453760"/>
              <a:chExt cx="639720" cy="27432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5120640" y="26366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86400" y="245376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121000" y="245376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566880" y="533520"/>
              <a:ext cx="1554120" cy="2560320"/>
              <a:chOff x="3566880" y="533520"/>
              <a:chExt cx="1554120" cy="25603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4023720" y="990720"/>
                <a:ext cx="548280" cy="1188720"/>
                <a:chOff x="4023720" y="990720"/>
                <a:chExt cx="548280" cy="11887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572000" y="1813680"/>
                  <a:ext cx="0" cy="36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206240" y="126504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389120" y="1539360"/>
                  <a:ext cx="0" cy="64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23720" y="990720"/>
                  <a:ext cx="0" cy="11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566880" y="2179440"/>
                <a:ext cx="1554120" cy="914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EL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3566880" y="533520"/>
                <a:ext cx="1554120" cy="1280160"/>
                <a:chOff x="3566880" y="533520"/>
                <a:chExt cx="1554120" cy="12801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566880" y="533520"/>
                  <a:ext cx="971280" cy="45720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ELEC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760920" y="807840"/>
                  <a:ext cx="971280" cy="45720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ULTIP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ELEC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955320" y="1082160"/>
                  <a:ext cx="971280" cy="45720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ELEC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149720" y="1356480"/>
                  <a:ext cx="971280" cy="45720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ELEC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2103840" y="2270880"/>
              <a:ext cx="273960" cy="731520"/>
              <a:chOff x="2103840" y="2270880"/>
              <a:chExt cx="273960" cy="731520"/>
            </a:xfrm>
          </p:grpSpPr>
          <p:sp>
            <p:nvSpPr>
              <p:cNvPr id="177" name=""/>
              <p:cNvSpPr/>
              <p:nvPr/>
            </p:nvSpPr>
            <p:spPr>
              <a:xfrm>
                <a:off x="2377800" y="2270880"/>
                <a:ext cx="0" cy="73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103840" y="227088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03840" y="272808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486760" y="3459600"/>
              <a:ext cx="2468520" cy="3017520"/>
              <a:chOff x="5486760" y="3459600"/>
              <a:chExt cx="2468520" cy="3017520"/>
            </a:xfrm>
          </p:grpSpPr>
          <p:sp>
            <p:nvSpPr>
              <p:cNvPr id="181" name=""/>
              <p:cNvSpPr/>
              <p:nvPr/>
            </p:nvSpPr>
            <p:spPr>
              <a:xfrm>
                <a:off x="5486760" y="3459600"/>
                <a:ext cx="2468520" cy="30175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OOL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60720" y="4374000"/>
                <a:ext cx="15541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LORMAP 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943600" y="4922640"/>
                <a:ext cx="15541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XTENDED VIEW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77840" y="3825360"/>
                <a:ext cx="15541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BINDING OBJEC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26480" y="5471280"/>
                <a:ext cx="15541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UXILIARY DIALOG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00800" y="6019920"/>
                <a:ext cx="146268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66840" y="533520"/>
              <a:ext cx="2468160" cy="1737360"/>
              <a:chOff x="366840" y="533520"/>
              <a:chExt cx="2468160" cy="1737360"/>
            </a:xfrm>
          </p:grpSpPr>
          <p:sp>
            <p:nvSpPr>
              <p:cNvPr id="188" name=""/>
              <p:cNvSpPr/>
              <p:nvPr/>
            </p:nvSpPr>
            <p:spPr>
              <a:xfrm>
                <a:off x="1189440" y="135648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29520" y="533520"/>
                <a:ext cx="1005480" cy="173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EL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366840" y="533520"/>
                <a:ext cx="822600" cy="1737360"/>
                <a:chOff x="366840" y="533520"/>
                <a:chExt cx="822600" cy="17373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66840" y="53352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66840" y="89928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6840" y="126504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66840" y="163080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66840" y="199656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1189440" y="6249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189440" y="9907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89440" y="17222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89440" y="20880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66840" y="5288400"/>
              <a:ext cx="2559960" cy="1188720"/>
              <a:chOff x="366840" y="5288400"/>
              <a:chExt cx="2559960" cy="1188720"/>
            </a:xfrm>
          </p:grpSpPr>
          <p:sp>
            <p:nvSpPr>
              <p:cNvPr id="201" name=""/>
              <p:cNvSpPr/>
              <p:nvPr/>
            </p:nvSpPr>
            <p:spPr>
              <a:xfrm>
                <a:off x="366840" y="5288400"/>
                <a:ext cx="2559960" cy="11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UI  BINDING`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0800" y="6111360"/>
                <a:ext cx="20779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K Bin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0800" y="5654160"/>
                <a:ext cx="20779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T Bin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V="1">
              <a:off x="2469600" y="473976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046720" y="3642480"/>
              <a:ext cx="1096920" cy="2743200"/>
              <a:chOff x="8046720" y="3642480"/>
              <a:chExt cx="1096920" cy="2743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8229240" y="3642480"/>
                <a:ext cx="639360" cy="274320"/>
                <a:chOff x="8229240" y="3642480"/>
                <a:chExt cx="639360" cy="27432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8229240" y="3825360"/>
                  <a:ext cx="58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694360" y="3642480"/>
                  <a:ext cx="1742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29240" y="3642480"/>
                  <a:ext cx="1742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8137800" y="3916800"/>
                <a:ext cx="100548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8229240" y="4648320"/>
                <a:ext cx="639360" cy="274320"/>
                <a:chOff x="8229240" y="4648320"/>
                <a:chExt cx="639360" cy="27432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8229240" y="4831200"/>
                  <a:ext cx="58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694360" y="4648320"/>
                  <a:ext cx="1742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29240" y="4648320"/>
                  <a:ext cx="1742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8046720" y="5014080"/>
                <a:ext cx="109692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HERITAN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8229240" y="5745600"/>
                <a:ext cx="639360" cy="274320"/>
                <a:chOff x="8229240" y="5745600"/>
                <a:chExt cx="639360" cy="2743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8229240" y="5928480"/>
                  <a:ext cx="58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94360" y="5745600"/>
                  <a:ext cx="174240" cy="2743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229240" y="5745600"/>
                  <a:ext cx="174240" cy="2743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8046720" y="6019920"/>
                <a:ext cx="109692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MPORT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024080" y="3093840"/>
              <a:ext cx="273960" cy="914400"/>
              <a:chOff x="4024080" y="3093840"/>
              <a:chExt cx="273960" cy="914400"/>
            </a:xfrm>
          </p:grpSpPr>
          <p:sp>
            <p:nvSpPr>
              <p:cNvPr id="222" name=""/>
              <p:cNvSpPr/>
              <p:nvPr/>
            </p:nvSpPr>
            <p:spPr>
              <a:xfrm>
                <a:off x="4298040" y="30938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024080" y="309384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02408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566880" y="4008240"/>
              <a:ext cx="1554120" cy="2468880"/>
              <a:chOff x="3566880" y="4008240"/>
              <a:chExt cx="1554120" cy="2468880"/>
            </a:xfrm>
          </p:grpSpPr>
          <p:sp>
            <p:nvSpPr>
              <p:cNvPr id="226" name=""/>
              <p:cNvSpPr/>
              <p:nvPr/>
            </p:nvSpPr>
            <p:spPr>
              <a:xfrm>
                <a:off x="3566880" y="4008240"/>
                <a:ext cx="1554120" cy="914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IL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66880" y="6019920"/>
                <a:ext cx="971280" cy="457200"/>
              </a:xfrm>
              <a:prstGeom prst="flowChartProcess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I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4572360" y="492264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298040" y="4922640"/>
                <a:ext cx="0" cy="73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023720" y="4922640"/>
                <a:ext cx="0" cy="10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40840" y="5654160"/>
                <a:ext cx="971280" cy="457200"/>
              </a:xfrm>
              <a:prstGeom prst="flowChartProcess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UN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15160" y="5288400"/>
                <a:ext cx="971280" cy="457200"/>
              </a:xfrm>
              <a:prstGeom prst="flowChartProcess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LORM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66840" y="3002400"/>
              <a:ext cx="2559600" cy="1737360"/>
              <a:chOff x="366840" y="3002400"/>
              <a:chExt cx="2559600" cy="1737360"/>
            </a:xfrm>
          </p:grpSpPr>
          <p:sp>
            <p:nvSpPr>
              <p:cNvPr id="234" name=""/>
              <p:cNvSpPr/>
              <p:nvPr/>
            </p:nvSpPr>
            <p:spPr>
              <a:xfrm>
                <a:off x="1829520" y="3002400"/>
                <a:ext cx="1096920" cy="173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89440" y="38253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66840" y="3002400"/>
                <a:ext cx="822600" cy="1737360"/>
                <a:chOff x="366840" y="3002400"/>
                <a:chExt cx="822600" cy="1737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66840" y="300240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GRAP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66840" y="336816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M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66840" y="373392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NTOUR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66840" y="409968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ES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66840" y="446544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189440" y="30938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89440" y="34596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89440" y="41911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89440" y="455688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14400" y="380880"/>
          <a:ext cx="845820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845820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kinter x Pyqt Simple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 Tk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SPSData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ImageView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= Tkinter.Tk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=SPSData  (RefreshInterval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= ImageView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etSource ( ColormapFilter (None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RectSelection(data))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.SetSource  (sys.argv[1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.LoadSource  (sys.argv[2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how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mainloo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051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 q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SPSData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ImageView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= qt.Qapplication (sys.arg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=SPSData  (RefreshInterval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= ImageView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etSource ( ColormapFilter (None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RectSelection(data))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.SetSource  (sys.argv[1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.LoadSource  (sys.argv[2]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how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setMainWidget  (Vi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exec_loo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1523880" y="533520"/>
            <a:ext cx="7457760" cy="5943600"/>
            <a:chOff x="1523880" y="533520"/>
            <a:chExt cx="7457760" cy="5943600"/>
          </a:xfrm>
        </p:grpSpPr>
        <p:sp>
          <p:nvSpPr>
            <p:cNvPr id="252" name=""/>
            <p:cNvSpPr/>
            <p:nvPr/>
          </p:nvSpPr>
          <p:spPr>
            <a:xfrm>
              <a:off x="7740720" y="3551040"/>
              <a:ext cx="1240920" cy="1005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UMP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0760" y="624960"/>
              <a:ext cx="1425960" cy="58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IEW SPECI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UMP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083480" y="3733920"/>
              <a:ext cx="1188360" cy="274320"/>
              <a:chOff x="4083480" y="3733920"/>
              <a:chExt cx="1188360" cy="27432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4083480" y="4008240"/>
                <a:ext cx="10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9788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8384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260880" y="2270880"/>
              <a:ext cx="273960" cy="731520"/>
              <a:chOff x="3260880" y="2270880"/>
              <a:chExt cx="273960" cy="731520"/>
            </a:xfrm>
          </p:grpSpPr>
          <p:sp>
            <p:nvSpPr>
              <p:cNvPr id="259" name=""/>
              <p:cNvSpPr/>
              <p:nvPr/>
            </p:nvSpPr>
            <p:spPr>
              <a:xfrm>
                <a:off x="3534840" y="2270880"/>
                <a:ext cx="0" cy="73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60880" y="227088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60880" y="272808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523880" y="533520"/>
              <a:ext cx="2468160" cy="1737360"/>
              <a:chOff x="1523880" y="533520"/>
              <a:chExt cx="2468160" cy="1737360"/>
            </a:xfrm>
          </p:grpSpPr>
          <p:sp>
            <p:nvSpPr>
              <p:cNvPr id="263" name=""/>
              <p:cNvSpPr/>
              <p:nvPr/>
            </p:nvSpPr>
            <p:spPr>
              <a:xfrm>
                <a:off x="2346480" y="135648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86560" y="533520"/>
                <a:ext cx="1005480" cy="173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EL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1523880" y="533520"/>
                <a:ext cx="822600" cy="1737360"/>
                <a:chOff x="1523880" y="533520"/>
                <a:chExt cx="822600" cy="17373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523880" y="53352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523880" y="89928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523880" y="126504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523880" y="163080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523880" y="199656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2346480" y="6249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46480" y="9907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46480" y="17222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346480" y="20880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523880" y="5288400"/>
              <a:ext cx="2559960" cy="1188720"/>
              <a:chOff x="1523880" y="5288400"/>
              <a:chExt cx="2559960" cy="1188720"/>
            </a:xfrm>
          </p:grpSpPr>
          <p:sp>
            <p:nvSpPr>
              <p:cNvPr id="276" name=""/>
              <p:cNvSpPr/>
              <p:nvPr/>
            </p:nvSpPr>
            <p:spPr>
              <a:xfrm>
                <a:off x="1523880" y="5288400"/>
                <a:ext cx="2559960" cy="11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UI  BINDING`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97840" y="6111360"/>
                <a:ext cx="20779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K Bin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797840" y="5654160"/>
                <a:ext cx="20779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T Bin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V="1">
              <a:off x="3626640" y="473976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523880" y="3002400"/>
              <a:ext cx="2559600" cy="1737360"/>
              <a:chOff x="1523880" y="3002400"/>
              <a:chExt cx="2559600" cy="1737360"/>
            </a:xfrm>
          </p:grpSpPr>
          <p:sp>
            <p:nvSpPr>
              <p:cNvPr id="281" name=""/>
              <p:cNvSpPr/>
              <p:nvPr/>
            </p:nvSpPr>
            <p:spPr>
              <a:xfrm>
                <a:off x="2986560" y="3002400"/>
                <a:ext cx="1096920" cy="173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46480" y="38253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1523880" y="3002400"/>
                <a:ext cx="822600" cy="1737360"/>
                <a:chOff x="1523880" y="3002400"/>
                <a:chExt cx="822600" cy="173736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523880" y="300240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GRAP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523880" y="336816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M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523880" y="373392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ISTO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523880" y="409968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D 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523880" y="446544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2346480" y="30938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46480" y="34596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46480" y="41911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46480" y="455688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643440" y="3733920"/>
              <a:ext cx="1188360" cy="274320"/>
              <a:chOff x="6643440" y="3733920"/>
              <a:chExt cx="1188360" cy="27432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6643440" y="4008240"/>
                <a:ext cx="10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5784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4380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en Simpler Example (NumPy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 Tk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ImageView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Numeric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= Tkinter.Tk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= ImageView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 = Numeric.ones ((500,500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etData(Image(ar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how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mainloo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51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 q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ImageView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Numeric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= qt.Qapplication (sys.arg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= ImageView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 = Numeric.ones ((500,500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etData(Image(ar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how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setMainWidget  (Vi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exec_loo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6:20:02Z</dcterms:created>
  <dc:creator>Alexandre Gobbo</dc:creator>
  <dc:description/>
  <dc:language>en-US</dc:language>
  <cp:lastModifiedBy>Preferred Customer</cp:lastModifiedBy>
  <dcterms:modified xsi:type="dcterms:W3CDTF">2002-10-03T14:18:24Z</dcterms:modified>
  <cp:revision>24</cp:revision>
  <dc:subject/>
  <dc:title>Data Visualization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gobbo@esrf.f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Green\gobbo\bliss\doc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